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4CF-FF03-4AD4-9868-89E1793C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80C-4401-422B-81B1-EE124CD9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195-2984-4D30-BA12-6FC6760E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5F2-E0DD-46A9-BC6F-C378C391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9969-5E44-4F2F-858A-580140D8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2C22-04F6-4413-B936-78F78F1B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E3C5-5913-42C8-A96D-71A2782F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1AA3-064B-402F-9D8D-FC21D8B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4AD9-EAFB-4310-A29B-8FBD5743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866D-BD0E-4281-AD2A-BF43E977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99F1-481E-4E08-B328-DA30C492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937-EE73-489A-A14E-29C37522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15AE-0B56-4F6E-9C91-EC6275A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661A-86A0-4F63-8A22-F3E452E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689E-66CA-44E6-8489-61C6BC29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F729-7AC7-4D7F-934B-86608403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DC5F-253A-455B-A5F6-0529AFFC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54A-7011-4457-9D67-2051F4FB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211-5352-430F-BC87-8C471279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B0D-3084-4103-BB8D-D262C6A0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10D-2D9D-4554-9559-51169334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419-4AA7-48D5-8291-113C485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D96-5210-4FE6-8372-026BEF2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930-8C28-4A1C-9199-7DE693E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B82B-E0A1-47C7-A752-649CBB25FAB0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C44B-A759-43AE-AF00-A26045259EF4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o.wikipedia.org/wiki/Turbin&#259;_cu_abur" TargetMode="External"/><Relationship Id="rId2" Type="http://schemas.openxmlformats.org/officeDocument/2006/relationships/hyperlink" Target="http://www.spdzoom.ro/articol.php?id=107&amp;SSID=48706695d851eb262c8cade4d45a9309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2349000"/>
            <a:ext cx="72392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Fenomene termice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prof. Peczi Olg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3336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Şcoala cu cls. I-VIII “ Pavel Dan”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Tritenii de Jo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Jud: Clu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Bibliografie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ro.wikipedia.org/wiki/Turbin%C4%83_cu_abu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spdzoom.ro/articol.php?id=107&amp;SSID=48706695d851eb262c8cade4d45a9309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oina Turcitu, Mihaela Iancu, Magda Panaghianu, Fizică 7- manual , Editura Radical, Craiova 2008, ISBN 978-973-8386-41-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este difuzia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5554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Arial"/>
              </a:rPr>
              <a:t>Difuzia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este răspândirea spontană a particulelor unui corp printre particulelor altui corp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Obs: - difuzia este mai intensă la temperaturi mai mari ( ceaiul se colorează mai mult dacă apa este fierbinte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- este ireversibilă. Fenomen invers difuziei nu există. (datorită difuziei Luna nu are atmosferă, atracţia gravitaţională a Lunii este prea slabă şi nu poate împiedica difuzia aerului în spaţiu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est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c</a:t>
            </a: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ăldura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85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Căldura (Q)  este forma de transfer a energiei între corpuri aflate în contact termic, datorită diferenţei de temperatur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Unitate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 m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ăsură în S.I. 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u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       = Jou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în practică : 1</a:t>
            </a:r>
            <a:r>
              <a:rPr b="0" lang="ro-RO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 4,18 J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68360" y="3933720"/>
                <a:ext cx="4464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Tempera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Arial"/>
              </a:rPr>
              <a:t>Temperatur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define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şte, starea termică a corpurilo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Unitatea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 m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ăsură în S.I. :Kelv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 T ] =Kelv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în practică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 grade 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Relaţia dintre cele scările termometri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[K] = t [ grade Celsius] + 273,1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- O variaţie (creştere sau scădere) a temperaturii are aceeaşi valoare în grade Celsius sau în Kelvin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     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50080" y="2733840"/>
                <a:ext cx="7776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55640" y="5516640"/>
                <a:ext cx="51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35280" y="5516640"/>
                <a:ext cx="51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Transferul căldur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Unele materiale, care împiedică transferul căldurii se numesc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izolatoare termice.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Exemple: - lemnul, lâna, sticl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acă stai într-o cabană din material izolator, vara nu se încălzeşte excesiv, iar eşti ferit de frig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Un bun izolator termic este aerul- ferestrele au câte două geamuri şi aerul dintre ele asigură izolaţie termică, astfel încât iarna să nu fie prea frig în cas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Materialele care furnizează transferul căldurii se numesc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conductoare termice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. Exemple: metale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acă o bară din material conductor termic este încălzit la un capăt în scurt timp şi celălalt capăt se încălzeşte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Arial"/>
              </a:rPr>
              <a:t>Ce sunt combustibilii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564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Combustibilii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– sunt substanţe sau amestecuri de substanţe, care în urma unei reacţii chimice de ardere produc o mare cantitate de căldur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Clasificarea combustibililo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După starea de agregare: solizi, lichizi, gazoş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După modul de obţinere:- natural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- artificial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Puterea calorică (q ) – este cantitatea de căldură degajată (Q ) la arderea unui kilogram de substanţ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Unitatea de măsură în S.I.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- pentru solizi şi lichizi :J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- pentru gazoşi: J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metru cu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184880" y="3894120"/>
                <a:ext cx="14796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e este un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otor termic si cum functionează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toarele termice cu piston, transformă energia termică (căldura) rezultată prin arderea combustibililor în lucru mecanic şi în energie calorică disipativă (căldură pierdută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ucrul mecanic se manifestă sub forma mişcării rectilinii şi alternative a pistoanelor, care este,la rândul ei, transformată în mişcare de rotaţie a arborelui cotit cu ajutorul</a:t>
            </a: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ecanismului bielă-manivel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Motorul cu ardere externă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Exemple: locomotiva cu abur, turbina cu abur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321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Motorul cu ardere internă</a:t>
            </a:r>
            <a:br>
              <a:rPr sz="3200"/>
            </a:b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Exemple: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motorul Otto, motorul Diesel</a:t>
            </a:r>
            <a:r>
              <a:rPr b="0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6280" y="1827360"/>
            <a:ext cx="357516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81560" y="2311560"/>
            <a:ext cx="326556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25:52Z</dcterms:created>
  <dc:creator>aaa</dc:creator>
  <dc:description/>
  <dc:language>en-US</dc:language>
  <cp:lastModifiedBy>aaa</cp:lastModifiedBy>
  <dcterms:modified xsi:type="dcterms:W3CDTF">2010-05-25T19:59:10Z</dcterms:modified>
  <cp:revision>10</cp:revision>
  <dc:subject/>
  <dc:title>Fenomene termice </dc:title>
</cp:coreProperties>
</file>